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AC51-0DD5-475B-8092-3D1D9E30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DE30-AE88-4C72-915C-4E743183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185C-5B27-4132-8C66-2A9FB5AF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96E4-7167-431C-9A65-2C737FB6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8FD5-28A9-49DA-B8AE-8CB36297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F041-96EC-40F4-B773-6F65272D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17D8-54EC-41AA-A5FF-6CFB545E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942-2C91-475C-9A0F-A042F40F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43D5-9B97-4693-BFF2-BA797A4D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8BB6-F2BB-4E56-BCA1-7E674C58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E0A4-7403-458B-91FA-6DC683E1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8F8C-82B4-48EF-AA06-388817D6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3a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CEBA-55FD-49B9-8D29-E12A62BE6A7C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3a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 Day in the Life of David Beckha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3513240" cy="3907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24360" y="1916280"/>
            <a:ext cx="4319640" cy="1330200"/>
          </a:xfrm>
          <a:prstGeom prst="wedgeRoundRectCallout">
            <a:avLst>
              <a:gd name="adj1" fmla="val -48675"/>
              <a:gd name="adj2" fmla="val 85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Hello pupils! Today I want to show you my fam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d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y Wife Vic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I saw her on a concert with the Spice Girls ... It was love at first s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Beckham Victoria - Photo - Victoria Beckham"/>
          <p:cNvPicPr/>
          <p:nvPr/>
        </p:nvPicPr>
        <p:blipFill>
          <a:blip r:embed="rId1"/>
          <a:stretch/>
        </p:blipFill>
        <p:spPr>
          <a:xfrm>
            <a:off x="5729400" y="2252520"/>
            <a:ext cx="23716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f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She saw me playing football and also fell in love. Two years later we got married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David und Victoria Beckham"/>
          <p:cNvPicPr/>
          <p:nvPr/>
        </p:nvPicPr>
        <p:blipFill>
          <a:blip r:embed="rId1"/>
          <a:stretch/>
        </p:blipFill>
        <p:spPr>
          <a:xfrm>
            <a:off x="3059280" y="3645000"/>
            <a:ext cx="30970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y First Son Brookly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11640" y="2492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His full name is Brooklyn Joseph Beckh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He was born on the 4th of March in 1999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Brooklyn"/>
          <p:cNvPicPr/>
          <p:nvPr/>
        </p:nvPicPr>
        <p:blipFill>
          <a:blip r:embed="rId1"/>
          <a:stretch/>
        </p:blipFill>
        <p:spPr>
          <a:xfrm>
            <a:off x="1476360" y="2852640"/>
            <a:ext cx="190512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e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Two years later my second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son Romeo was born. For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some months we live in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Spain. I‘m happy with my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wonderful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badi MT Condensed Light"/>
              </a:rPr>
              <a:t>© Nicole Oehring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21942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8:58:16Z</dcterms:created>
  <dc:creator>Nagel Christian</dc:creator>
  <dc:description/>
  <dc:language>en-US</dc:language>
  <cp:lastModifiedBy> </cp:lastModifiedBy>
  <dcterms:modified xsi:type="dcterms:W3CDTF">2009-03-19T16:26:23Z</dcterms:modified>
  <cp:revision>4</cp:revision>
  <dc:subject/>
  <dc:title>A Day in the Life of David Beckham </dc:title>
</cp:coreProperties>
</file>